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129-C4D1-49E7-91A8-B360799E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E8E-B287-4A00-8C07-A4BC7A3B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16158-B701-4C5A-B4F7-140FEAC1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32755-919A-4E8A-A284-3F86D97F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E797E-700D-424F-A6AF-D153CBA4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05034-5128-4886-9F71-887EF61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7AB0B-AEAF-41C2-B405-B1D8040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E7E25-0857-47B2-83D8-FA766619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AE936-B3CB-45A4-9AB8-443DE8FF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622EC-F016-4F18-86D0-9B60E9E5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38C7B-F6E8-4E9A-8ADC-65C85C31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832D5-66DD-4456-BE3F-4A8CB448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9DC-94A4-4072-888F-6085C9EA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2EAC3-4022-4D9C-837D-B0774FC0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7661B-5AFC-4949-9068-FDEDC8BF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775B2-9AC3-4DE2-9CC8-DD596A2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511DE-C136-4C8F-B35C-C30654E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082AE-237D-4B6C-A2F5-01A4243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778D0-4E15-4C71-884A-B635B8C9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43184-F4A3-42F2-AA47-D91ED2D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39B2-9BA9-454B-AD28-4B72679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3AB02-6850-4876-8CD7-7C1BE380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3A1AC-8797-4C73-A7E0-C35EE6E5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E11-A4F7-4B0D-8972-DA06E815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1B83E-AF9B-47CE-9751-BB91992D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2E84A-450C-40A2-9F29-D74161C0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0B09-515F-4918-9AD0-FD5E170D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D773A-BF2F-428C-BF0E-B5FB6BD8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A2575-49C0-4B57-9676-3CEFD1C2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DD5D4-BBB1-4A19-8CF3-6DCEF6D3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62F6-DCF2-4D14-BEFC-899CB205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8D19A-01E2-416B-BE68-6F0E7C6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1306C-19BE-4830-8942-A019C0E4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3EF4D-BE2A-48BE-9C46-D77EE89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34FF-5F66-4689-808A-0D0EA7BB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B51E9-1ECF-4229-8D7B-06B85ED7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91A3F-CC91-41DB-962B-25D7533E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579E3-30A6-4C7A-AA04-30AFCEA8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F98EB-AC12-4E53-9DD4-F16405DB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56C47-2CE0-4B04-A506-B5B18312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32B6A-AC31-48F8-9B05-4E28DB4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F92BC-B3EF-4AF1-8B43-05C8B77A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EC697-4D5F-468E-B37E-82320153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16167-243E-4CD8-B0E4-5EA77E5A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E1AF6-97AE-40C6-93AB-89B5713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25B9-92EB-432B-A78E-293F706B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ED8C3-BB15-4E88-9034-161F7D7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554E8-D45F-4846-87B4-3FCCB0A7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988C5-2988-42F9-95A7-239E25E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55FAF-E10B-4952-A401-FD36B844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92CD5-CB82-46B2-8F99-61E91BFA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327CC-B001-4896-B653-6D3C51B9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6D118-A3D7-4654-8205-C277C50B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35A4A-666B-4AD3-A8CC-8A5BCF14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02099-ABF4-4253-A515-6EECEAEE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741AE-0FEC-412A-9BA6-8A500395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4A0F-86D1-4180-ADD5-3C8579DB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4F2BA-41AD-4023-9820-68395218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890B6-B3DB-45ED-AC0A-A31C614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47F6C-6A3B-4EDD-83E4-A6B8A8D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8A204-BAE5-4BBB-9421-3319433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80C57-2616-4E9B-8E81-86272D75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2EE59-9143-436C-B096-510E903A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027EC-F4F3-488B-832D-AB179688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490-0046-438C-9EDC-5B1CDDDB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C0F6-47F1-4A63-B451-B482D684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72ED-0F8B-4119-91D3-9CCBD966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C988-5EF7-4D78-8552-7FDFE3C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7EE-6883-4243-AF2B-5386470F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63D0-8425-4F87-9C80-32E6EB3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55EC-E650-47AC-AD0F-076BEDD9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8C05-750C-4BFC-BE1F-A9BA2A8F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0F24-E488-4876-B004-D6F502B9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F91B-0E19-4799-B5CA-B8C8BADB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C010-E882-413B-A208-E907502B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6816-3E6E-4E9E-AA9E-2FA0D3E1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520F-2AB4-4051-A6CB-09A43291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C215-CBB8-48BE-B7F0-EFE4C6E1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4E68-227C-4E9B-A4BA-DD206B7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BDB-C621-42E9-B09E-8B176EE9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52F89-7E98-40E6-9EF8-34E26F4A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CDED4-FB20-4271-9606-6EA0F36C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9066-5A59-4161-8F73-07A8E4D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B775-F763-4C76-997A-89BF8FF9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A049-A43C-49FB-B71C-610D50F1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2CCD-8D85-4175-8965-590F3340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2B90-132B-4618-A313-36749CDC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7071-D74F-409B-9CE5-45ED685C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9720-CD61-4A32-BD4D-8EF88C51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96BB-A021-468D-A50D-F847C139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BE9-D92B-407B-AAFD-8C5C7C91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3BCE-16C7-4741-8A0E-256CFE92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4F4E-2203-4919-B0FB-27CB298D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73F7-2F16-4247-B06A-6E2B4E84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E2B9-F307-4202-9393-7C3B17A6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A796-CEAF-4306-B6D6-1500769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CD3B-6035-42AD-81E9-7C21EB9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B760-F2A7-456D-A4F7-8648421A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2400F-6B79-42B6-BEA9-CF401F47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3177-BABA-4A5B-843D-778C41EF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EF2D-EC94-4D9A-B9EB-40CA2C59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F87-7D8D-4FAD-8C0B-7A91669C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F9406-D23E-4598-8125-CE4F8D58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9EB47-F77D-4BA8-A647-EDC1BC8F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BFA04-1D37-40D5-A969-292AD60B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26AE4-5427-4EEC-9B1A-C7B8124F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20E7-CB32-4C69-9D25-DFE49556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0EB04-4253-4966-9BBE-49F9702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46B1-7917-4A64-A7F8-0675F4CB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1CC25-5CDF-4B44-9CB1-35879F2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3700-AD4B-40CF-B08F-7DCC02AD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90397-C3E9-4E47-A8B4-8E8CBD4D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DF6-771B-4609-82E4-D1312C54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F9A1-884A-4E34-8531-F36FDCB0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1BB6A-CA89-4F0C-A952-C0ACD2ED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9B7BF-F1A2-40E1-977B-958D01F2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D6B45-C0F4-4253-BF2E-2823F95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EB30-4B27-41D3-9050-6420E98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1333E-CA85-450E-B09F-320AB797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C8DDE-5F0B-4832-BD53-CC00DC55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B8D91-A368-4D3A-87D5-8C2888E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970F-63EC-4F25-9BCF-296505C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6C8F4-BABE-453B-A8F2-DDE0A0D7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CB0-65FD-4FE9-91F7-571325A9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151B4-121C-4F7D-8470-187FFBA7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6D775-726E-4B38-AD2B-6540BB76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EDBED-8576-4470-A01E-73684704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6C840-F7AC-4F7A-B57A-C285E05F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569EC-BFA4-4D29-B657-A9C57BD4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79980-F8D1-4ABF-B414-238CB253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38B6D-3857-4A7D-BFDD-BBE5E8B9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9C7D0-EA49-4956-9592-E3323188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D7426-6964-4738-BCD2-08F9F29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DEE93-8256-4C38-ABB2-8720AC55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259-DC2C-4EF7-8F4F-023909B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6B9A7-5B72-4B92-82EB-4068AFB2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92038-8C85-4687-B854-B1BE148E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82FF8-5DA8-4A5F-A03F-6A3C5A84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C2038-F915-4946-A686-84296B65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2A6C0-8033-4392-89D1-372F00C2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1F5D8-98EB-49CA-A69B-30967015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E8B09-F5DC-4903-8342-AC726B6B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84C2-0FC6-455A-BC44-7790A138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6F813-E39A-4179-B03F-DC3E52E4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02EBC-34A4-4761-8B30-0579FEAD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765-DC05-4C7B-8CA2-3FE9643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1283D-71B9-43E4-A4FB-2A1E97DF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1FD30-4E42-498A-80AA-AD422FE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C94C-6A59-412F-A313-656FB4CF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F368D-B44B-4279-B6E2-B796E59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D5930-AA02-4750-98C7-924B88CB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B1D1E-9FB8-483C-9543-D7AF5816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3A0C7-C181-45AA-A145-E3FBECE6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DDC5B-F052-47BF-8737-5E89F785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1E70C-524D-477D-9870-5B0E4DDF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811ED-2930-4A63-9977-22081FA6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7A18-C0D7-4902-B90B-BE4497809F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38FA-91E4-4D43-B442-44082B3C35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2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3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6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9B7B-1FA6-458F-AD86-9D275F15D3A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2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3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6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803-28DF-4C07-B7A1-82AA291E6CD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50F1-601C-4DF1-9CC0-E0399EB7D91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9C3A-27D4-4519-9D2E-D823CDCB9D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995E-7D45-4CC3-959C-61BDAC1C49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A269-8EFF-4FA9-BFDA-B000DF63805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80BD-6E29-4E45-98B3-B5B33B2C447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DE12-2249-43BB-B086-EEB4DA80ED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64B4-3977-4037-BF39-A2C8094AC5D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9804-5C83-460E-B804-48A26713D2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4BDA-EA0A-4FBC-A39A-AA20D6F769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Й УРОК ПО ТЕМЕ:                         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АКОНЫ ПОСТОЯННОГО ТОК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 урок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овторить основные понятия и законы постоянного тока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совершенствовать навыки решения задач различного типа;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роверить уровень знаний по данной теме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познавательную активность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стимулировать логическое мышление, активность и самостоятельность студентов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умение сравнивать, анализировать, делать выводы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навыки самоконтроля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коммуникативные способности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7045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             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россвор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928800" y="1357200"/>
          <a:ext cx="7467480" cy="47707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Прямая соединительная линия 5"/>
          <p:cNvSpPr/>
          <p:nvPr/>
        </p:nvSpPr>
        <p:spPr>
          <a:xfrm>
            <a:off x="3571920" y="4143240"/>
            <a:ext cx="500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6"/>
          <p:cNvSpPr/>
          <p:nvPr/>
        </p:nvSpPr>
        <p:spPr>
          <a:xfrm>
            <a:off x="3643200" y="5357880"/>
            <a:ext cx="500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7"/>
          <p:cNvSpPr/>
          <p:nvPr/>
        </p:nvSpPr>
        <p:spPr>
          <a:xfrm>
            <a:off x="3643200" y="3786120"/>
            <a:ext cx="500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рямоугольник 1"/>
          <p:cNvSpPr/>
          <p:nvPr/>
        </p:nvSpPr>
        <p:spPr>
          <a:xfrm>
            <a:off x="3361680" y="2142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48"/>
          <p:cNvSpPr/>
          <p:nvPr/>
        </p:nvSpPr>
        <p:spPr>
          <a:xfrm>
            <a:off x="857160" y="714240"/>
            <a:ext cx="82868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л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едставлена схема электрической цепи с сопротивлениям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8 О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Ом,       Определить токи резисторах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если напряжение приложенное к цепи равно 120 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62"/>
          <p:cNvSpPr/>
          <p:nvPr/>
        </p:nvSpPr>
        <p:spPr>
          <a:xfrm>
            <a:off x="857160" y="4286160"/>
            <a:ext cx="7358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5 балл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едставлена схема электрической цепи с сопротивлениям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 О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Ом,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Ом. Определить токи в ветвях, если напряжение приложенное к цепи равно 120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63"/>
          <p:cNvSpPr/>
          <p:nvPr/>
        </p:nvSpPr>
        <p:spPr>
          <a:xfrm>
            <a:off x="785880" y="2428920"/>
            <a:ext cx="7858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бал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едставлена схема электрической цепи с сопротивлениям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Ом,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Ом     Определить токи в резисторах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если напряжение приложенное к цепи равно 120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64"/>
          <p:cNvSpPr/>
          <p:nvPr/>
        </p:nvSpPr>
        <p:spPr>
          <a:xfrm>
            <a:off x="5429160" y="17146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=I2=2,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65"/>
          <p:cNvSpPr/>
          <p:nvPr/>
        </p:nvSpPr>
        <p:spPr>
          <a:xfrm>
            <a:off x="5500800" y="371484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= 4A;    I2=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66"/>
          <p:cNvSpPr/>
          <p:nvPr/>
        </p:nvSpPr>
        <p:spPr>
          <a:xfrm>
            <a:off x="5276880" y="55720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= 10A;   I2=4A;   I3=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57360" y="1071360"/>
            <a:ext cx="550044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Всем Спасибо за работу 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9720" y="3286080"/>
            <a:ext cx="3886200" cy="135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3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Молодцы!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0" name="Содержимое 3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5218200" y="3100320"/>
            <a:ext cx="1825560" cy="1724040"/>
          </a:xfrm>
          <a:prstGeom prst="rect">
            <a:avLst/>
          </a:prstGeom>
          <a:ln w="0">
            <a:noFill/>
          </a:ln>
        </p:spPr>
      </p:pic>
      <p:pic>
        <p:nvPicPr>
          <p:cNvPr id="651" name="Рисунок 4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214200" y="642960"/>
            <a:ext cx="1959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42600" y="1142640"/>
            <a:ext cx="8015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 Что представляет собой электрический ток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О каких трёх величинах идёт речь в законе Ома для участка цеп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Что называют силой то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Назовите единицу измерения силы то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Что называется напряжением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. Как формулируется закон Ома для участка цеп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. Как сопротивление проводника зависит от дли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одника и от площади поперечного сечения проводни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. Назовите единицу измерения напряж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.Как называется физическое тело, не проводящее электрический ток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. Назовите единицу измерения сопротивл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. Как рассчитать мощность потребител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. Как рассчитать мощность источника питани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. В каких единицах измеряется мощность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 каких единицах измеряется работа электрического то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Как рассчитать работу электрического то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42960" y="571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Физическое  лото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е: Напишите около названия каждой физической величины номер формулы, по которой ее можно вычисл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а тока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яжение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противление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Ома для участка цеп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Ома для полной цепи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 электрического тока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щность электрического то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4" descr=""/>
          <p:cNvPicPr/>
          <p:nvPr/>
        </p:nvPicPr>
        <p:blipFill>
          <a:blip r:embed="rId1"/>
          <a:stretch/>
        </p:blipFill>
        <p:spPr>
          <a:xfrm>
            <a:off x="3000240" y="85716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2" descr=""/>
          <p:cNvPicPr/>
          <p:nvPr/>
        </p:nvPicPr>
        <p:blipFill>
          <a:blip r:embed="rId2"/>
          <a:stretch/>
        </p:blipFill>
        <p:spPr>
          <a:xfrm>
            <a:off x="3143160" y="142884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"/>
          <p:cNvPicPr/>
          <p:nvPr/>
        </p:nvPicPr>
        <p:blipFill>
          <a:blip r:embed="rId3"/>
          <a:stretch/>
        </p:blipFill>
        <p:spPr>
          <a:xfrm>
            <a:off x="3429000" y="2357280"/>
            <a:ext cx="1214280" cy="785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"/>
          <p:cNvPicPr/>
          <p:nvPr/>
        </p:nvPicPr>
        <p:blipFill>
          <a:blip r:embed="rId4"/>
          <a:stretch/>
        </p:blipFill>
        <p:spPr>
          <a:xfrm>
            <a:off x="4857840" y="3929040"/>
            <a:ext cx="857160" cy="714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5"/>
          <a:stretch/>
        </p:blipFill>
        <p:spPr>
          <a:xfrm>
            <a:off x="4786200" y="307188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"/>
          <p:cNvPicPr/>
          <p:nvPr/>
        </p:nvPicPr>
        <p:blipFill>
          <a:blip r:embed="rId6"/>
          <a:stretch/>
        </p:blipFill>
        <p:spPr>
          <a:xfrm>
            <a:off x="4714920" y="5000760"/>
            <a:ext cx="1357200" cy="357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7"/>
          <a:stretch/>
        </p:blipFill>
        <p:spPr>
          <a:xfrm>
            <a:off x="5143680" y="5643720"/>
            <a:ext cx="1285560" cy="4284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5"/>
          <p:cNvSpPr/>
          <p:nvPr/>
        </p:nvSpPr>
        <p:spPr>
          <a:xfrm>
            <a:off x="0" y="340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ческое  ло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4481640" y="494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911160" y="95256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911160" y="989640"/>
            <a:ext cx="23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ока –  ( 7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– ( 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0" y="14860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4"/>
          <p:cNvSpPr/>
          <p:nvPr/>
        </p:nvSpPr>
        <p:spPr>
          <a:xfrm>
            <a:off x="0" y="2030760"/>
            <a:ext cx="4214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– ( 6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0" y="19810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7"/>
          <p:cNvSpPr/>
          <p:nvPr/>
        </p:nvSpPr>
        <p:spPr>
          <a:xfrm>
            <a:off x="0" y="2370960"/>
            <a:ext cx="49291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ма для участка цеп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1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электрического тока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4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8"/>
          <p:cNvSpPr/>
          <p:nvPr/>
        </p:nvSpPr>
        <p:spPr>
          <a:xfrm>
            <a:off x="0" y="247644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0"/>
          <p:cNvSpPr/>
          <p:nvPr/>
        </p:nvSpPr>
        <p:spPr>
          <a:xfrm>
            <a:off x="0" y="297468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ма для полной цеп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2 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1"/>
          <p:cNvSpPr/>
          <p:nvPr/>
        </p:nvSpPr>
        <p:spPr>
          <a:xfrm>
            <a:off x="0" y="29718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328572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324792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6"/>
          <p:cNvSpPr/>
          <p:nvPr/>
        </p:nvSpPr>
        <p:spPr>
          <a:xfrm>
            <a:off x="428760" y="3584520"/>
            <a:ext cx="47149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ость электрического тока- ( 3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1440" y="285840"/>
            <a:ext cx="77025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65c"/>
                </a:solidFill>
                <a:latin typeface="Times New Roman"/>
                <a:ea typeface="Times New Roman"/>
              </a:rPr>
              <a:t>ПРИБОРЫ –ОРУЖИЕ ФИЗИ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934560" y="2133720"/>
            <a:ext cx="820908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 для обнаружения электрического заря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 для регулирования силы тока в цеп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 для измерения силы т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, которым измеряют мощность электрического тока в цеп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, который включается в цепь, параллельно тому участку цепи, где измеряют напряж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42960" y="-50004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1" i="1" lang="ru-RU" sz="10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</a:t>
            </a:r>
            <a:br>
              <a:rPr sz="1400"/>
            </a:br>
            <a:r>
              <a:rPr b="0" lang="ru-RU" sz="3600" spc="-1" strike="noStrike">
                <a:solidFill>
                  <a:srgbClr val="04617b"/>
                </a:solidFill>
                <a:latin typeface="Arial Black"/>
              </a:rPr>
              <a:t>Практическое зада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24" name="Содержимое 10" descr="F:\data\articles\51\5168\516892\Image3041.gif"/>
          <p:cNvPicPr/>
          <p:nvPr/>
        </p:nvPicPr>
        <p:blipFill>
          <a:blip r:embed="rId1"/>
          <a:stretch/>
        </p:blipFill>
        <p:spPr>
          <a:xfrm>
            <a:off x="1785960" y="1357200"/>
            <a:ext cx="2138400" cy="2389320"/>
          </a:xfrm>
          <a:prstGeom prst="rect">
            <a:avLst/>
          </a:prstGeom>
          <a:ln w="0">
            <a:noFill/>
          </a:ln>
        </p:spPr>
      </p:pic>
      <p:pic>
        <p:nvPicPr>
          <p:cNvPr id="625" name="Содержимое 13" descr="F:\data\articles\51\5136\513639\image3.gif"/>
          <p:cNvPicPr/>
          <p:nvPr/>
        </p:nvPicPr>
        <p:blipFill>
          <a:blip r:embed="rId2"/>
          <a:stretch/>
        </p:blipFill>
        <p:spPr>
          <a:xfrm>
            <a:off x="5214960" y="371484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11" descr="F:\data\articles\51\5136\513639\image6.gif"/>
          <p:cNvPicPr/>
          <p:nvPr/>
        </p:nvPicPr>
        <p:blipFill>
          <a:blip r:embed="rId3"/>
          <a:stretch/>
        </p:blipFill>
        <p:spPr>
          <a:xfrm>
            <a:off x="2143080" y="385776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12" descr="F:\data\articles\51\5168\516892\Image3042.gif"/>
          <p:cNvPicPr/>
          <p:nvPr/>
        </p:nvPicPr>
        <p:blipFill>
          <a:blip r:embed="rId4"/>
          <a:stretch/>
        </p:blipFill>
        <p:spPr>
          <a:xfrm>
            <a:off x="4643280" y="1357200"/>
            <a:ext cx="25178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6286680" y="356760"/>
            <a:ext cx="2535120" cy="49561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 расск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й вид соединения проводников вы использовали в работе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измерения и вычисления  проводили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 завися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U,R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ида соединения проводникаов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9" name="Рисунок 5" descr="F:\data\articles\50\5080\508072\img1.jpg"/>
          <p:cNvPicPr/>
          <p:nvPr/>
        </p:nvPicPr>
        <p:blipFill>
          <a:blip r:embed="rId2"/>
          <a:stretch/>
        </p:blipFill>
        <p:spPr>
          <a:xfrm>
            <a:off x="208080" y="1133640"/>
            <a:ext cx="6016680" cy="153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0" name=""/>
          <p:cNvGraphicFramePr/>
          <p:nvPr/>
        </p:nvGraphicFramePr>
        <p:xfrm>
          <a:off x="214200" y="3429000"/>
          <a:ext cx="5857920" cy="1177920"/>
        </p:xfrm>
        <a:graphic>
          <a:graphicData uri="http://schemas.openxmlformats.org/drawingml/2006/table">
            <a:tbl>
              <a:tblPr/>
              <a:tblGrid>
                <a:gridCol w="1200240"/>
                <a:gridCol w="1411200"/>
                <a:gridCol w="1552680"/>
                <a:gridCol w="1693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соеди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я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против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Заголовок 9" descr=""/>
          <p:cNvPicPr/>
          <p:nvPr/>
        </p:nvPicPr>
        <p:blipFill>
          <a:blip r:embed="rId1"/>
          <a:stretch/>
        </p:blipFill>
        <p:spPr>
          <a:xfrm>
            <a:off x="304920" y="633240"/>
            <a:ext cx="2700360" cy="12319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213840" y="2214720"/>
            <a:ext cx="3071880" cy="16430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М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Георг Сим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6 марта 1787 Эрланген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 июля 1854    Мюнхе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3" name="Рисунок 2" descr="http://www.piplz.ru/photo/Ohm.jpg"/>
          <p:cNvPicPr/>
          <p:nvPr/>
        </p:nvPicPr>
        <p:blipFill>
          <a:blip r:embed="rId2"/>
          <a:stretch/>
        </p:blipFill>
        <p:spPr>
          <a:xfrm>
            <a:off x="3492360" y="609480"/>
            <a:ext cx="5054760" cy="113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1857240" y="1500120"/>
          <a:ext cx="5786640" cy="4572000"/>
        </p:xfrm>
        <a:graphic>
          <a:graphicData uri="http://schemas.openxmlformats.org/drawingml/2006/table">
            <a:tbl>
              <a:tblPr/>
              <a:tblGrid>
                <a:gridCol w="412920"/>
                <a:gridCol w="414360"/>
                <a:gridCol w="412560"/>
                <a:gridCol w="412920"/>
                <a:gridCol w="414360"/>
                <a:gridCol w="412560"/>
                <a:gridCol w="414360"/>
                <a:gridCol w="412920"/>
                <a:gridCol w="412560"/>
                <a:gridCol w="414360"/>
                <a:gridCol w="412920"/>
                <a:gridCol w="412560"/>
                <a:gridCol w="414360"/>
                <a:gridCol w="412920"/>
              </a:tblGrid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Прямоугольник 2"/>
          <p:cNvSpPr/>
          <p:nvPr/>
        </p:nvSpPr>
        <p:spPr>
          <a:xfrm>
            <a:off x="3297960" y="500040"/>
            <a:ext cx="26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6-12-14T19:23:05Z</dcterms:modified>
  <cp:revision>81</cp:revision>
  <dc:subject/>
  <dc:title>ЗАЧЕТНО - ОБОБЩАЮЩИЙ УРОК ПО ТЕМЕ:                            « ЗАКОНЫ ПОСТОЯННОГО ТОКА»</dc:title>
</cp:coreProperties>
</file>