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D95-9FBD-4154-805D-61E6333D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F46-BA5E-4B6B-A002-C0FFF582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98C32-FE0E-47D1-8D57-78AF1CA2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8CCBB-91B7-447C-8F24-6B0801B8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49FA6-AE8C-4E20-B804-808414C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47CAC-C112-4701-89FF-433D3FD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9C81-A06A-4DBB-BC96-094AC79B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BCF5B-842E-46FC-8580-69A1BEF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4720C-86C6-4F7C-96D9-9583D0DA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F4B92-7B9E-413E-BA0A-5099CD21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EEF02-5997-402A-B9AE-C4A82796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EBC75-2370-4A14-AB45-4639B864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541-555C-4A0A-95CE-9EC2411B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6E76C-B157-4A33-89DF-33E8755D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2D377-1156-448D-B81E-36C0D43C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7511F-B630-44CE-BBF7-6845C4D7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5142E-4B32-499A-875D-7E9DF51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9F18D-14BC-46AD-A65F-19EA3DE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C3795-9225-43E7-8916-920E6DA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1FBC9-BD1B-4162-B419-9741E67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7C146-3135-4528-8347-8550A94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23CBE-9B3E-459B-A733-772016B7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08B35-042F-4633-A7EF-EF5CF572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9E4-1726-4BD9-A719-CEA9D4A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C5229-F5CF-4F42-A31D-CF92A705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61C01-8A5A-4E0F-B605-FBC294C9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4F15-43A7-4EA1-9509-9F37F7BF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C95A-7B1C-4006-8F1B-757302DE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1E7FC-99A6-41CE-91C0-8AEC883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E305E-FABA-4D0E-91EE-350C559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8CB5-B034-4526-BCAB-85E8A4D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4CF1-6FC7-4377-B9A5-3CCEB77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C1878-E14C-407C-8FA5-A8D9CEB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F75A1-E73E-4E3D-B609-3D057B0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32E-8985-4252-921A-806197B1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0C791-A3C9-4CF9-B6F5-246E5A7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CD0CE-6A2F-4FD4-B8C5-9BF77D59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07760-94B8-49DE-81B8-A06176FE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7AF63-FC7E-47DF-A24A-3D70ABD7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8A816-FB62-434A-A0BA-AB252FA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DB8B8-0BF5-45B6-B7F5-8E9FCAE6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57FA3-DCC6-4333-87EE-745D26C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4FAF7-068C-4A10-94FA-1931CFAA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25948-0852-4FCF-8C69-45B0D18F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53C9-AE60-4D96-B2C0-01E8528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F4C-96F6-4C16-B72E-578C2EDC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C4C9C-DF09-4B62-A5B6-88FCF597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CFFA-AD83-44C6-8D18-6E15440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E94FA-49AB-4B76-BCA8-99FC3EA7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A1410-00A2-4119-85D6-B4057B19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07FA8-E6B3-4D06-B3E5-2B6FC329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A83D5-1030-4768-A3F5-DE762147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082D7-A736-415A-9835-3D0707CD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B866B-07B8-4120-805B-119C6E29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4B08D-7368-475A-9FF3-750BAE2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92B11-FD3B-4EA9-B187-99F9BC2A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3032-C813-4A86-91B0-9766BCB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BE378-3488-45D4-B338-FB764835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2FD57-D187-44A4-B7BA-0FFA384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04589-EDD7-43D2-A7D1-24626928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45B1D-8AF6-4F7C-A6E0-1FF01C42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ADE46-359D-4B10-AEEE-A133212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3FA9C-88CB-4310-A12C-60EE6110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D6C24-8EB8-4BBD-B3A4-80E65BAC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575-9B77-4EC7-8FBC-8E7EC9C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7B0-7256-474C-A974-03FD4BEF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AC0B-740E-4365-887C-35DC2853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CB8-AC88-4F89-8232-1D9CB48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B78-B41D-4C96-93C3-4A8FBF1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07B-CF61-469E-9F02-D393274D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8C1E-E1E7-4B92-AAFE-BF4A54E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C00C-39BF-4687-9840-C2D80B9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2CAC-EC74-4B3F-A413-18CF2EFB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05A7-6FA4-4FAD-87D7-5B7C7163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5C53-254E-464F-B50F-44D2CC05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F8E1-C4EF-4CC4-9761-B688D610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ADC9-D7FC-475C-83EB-47DEA49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B9F0-6868-453A-BD4C-D845BE6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625F-1B87-4501-A409-6DA6B424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C47-BE66-424B-9212-4077290B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1C1F-7FBD-4844-9EAC-B3516D15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1869-98D7-4161-BFA9-B7C5D7CD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30F0-0A7C-4F3B-B4E3-FF3D556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7004-E41F-40E6-B1A0-AD961AA8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F728-1DEB-49EE-AE06-FE8DEA0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B4B3-0925-4491-A275-B210B83D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79B7-B70F-4087-949F-0878B4B2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DF29-9D05-4E1E-9111-F97103BA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6866-F77D-4C32-888C-06A2D43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4B4B-57AF-41E6-BD29-F297BA0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6A9-0D26-4918-86CA-B05E750C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730F-85EF-4AAD-969E-E7A09AF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85E2-6D87-417A-AFFF-EA9E3DF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1124-8925-48FD-A6C2-C805CACA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92A4-0A51-41B2-8AEE-8B73244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3463-B56E-4DBF-885F-94AFC69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1B83-7858-41AA-8C17-2668322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DA6D-82A9-47E0-8E6A-B143951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7EE8-5D77-466D-8D2F-49F0ECC1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41FD-B0A9-4D26-911A-2752E33A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4EDE-5480-4056-B491-45DCD047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DA0-689E-4B19-896E-670FB7F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FFEA-3203-41ED-8FE5-69AA90E2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C701-492E-4100-861D-70D3183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479F-535E-4B77-A476-BCA5FC2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D3D62-F002-4CA4-B046-71B21354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3575-CC87-4697-A4DA-F5BB3046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5245-4088-4C19-B47A-2F17900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922F-5FDB-4B62-B3EF-A9B8D05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16F14-D17F-4FAD-87A1-62E7E0F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B1B1-2B5E-4434-AB3E-FACF673F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51F5-0715-4A69-A0CA-5C225F7E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E47-5489-499B-9BC4-57B473B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CC9D-4E39-4193-8E99-E327657E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A7B4-A7E7-44D3-A5FA-A7412383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071F-7D83-43DE-8787-1AD416F7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EA2D-6568-4C22-94F1-A61DF5E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6719-0005-4A50-AAC8-F186380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A7A7-7C22-4C48-BC38-B4A24E3F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81D3-78C9-4A2C-A349-64E20BBD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7E732-B7B3-4A51-BD45-DD47497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F970-DC3F-41DA-B8CB-D2F45D7A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5193-D8B3-4F1A-ACBC-DA56C19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2E4-8534-449F-97B9-B6B2C6EB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464A-E8D5-459B-9D28-F65EE9C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D029-3D69-4B0A-B459-475D726C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1469F-38F3-416C-A3B5-C3C48891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17E3-ED85-4722-9ABD-8D6E0BD6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FE76F-22B0-40BA-BF5F-1C39DEAD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6DEAC-BC41-491C-BFB6-8399822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CEC9-6669-4DA3-93BA-0B45BAB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67BDA-E300-4197-A8C2-453E940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11AC-9A0B-49B3-947B-69FE0B2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0E4F-F543-4C17-AE58-F39AD23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223-B1B2-4F05-B7E9-D17010F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3322A-C5D3-4CCA-81E1-6A804ED9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F131-7E81-43E1-A8D9-E9E931CD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D24F9-649F-4969-8041-663B13A5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589DC-A545-4C8C-8B42-E7C597CE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CD87-0883-4716-9F21-5618CFA3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A4FA0-E068-41DA-8ABF-7A1C841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A965B-487A-4F6D-B03A-23BCE3AC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C27E7-B503-4F9B-894E-14FD0289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B48E-1A1C-4395-98B1-E8E59BA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0F6F-789C-4EE0-8290-8E9F90BF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289-0DB4-4CAA-8BF1-31B19A94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557D-FC11-4C34-840C-22BE95C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0E27-B471-4CDF-9FEA-9499424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7989F-AD04-4A0A-AF08-5C9D846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5439A-F4CD-4493-AC3E-D9A8DCCD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F3E7B-6520-4C53-9ED4-9CEAFE27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CF785-8BE6-444F-8FDA-8A5BB0C0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981E-AA23-497D-AE58-6ABE1622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D70C3-DE6C-4D26-8452-3E8A71B9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AC915-1C85-48D0-884D-2402676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0DBEF-9938-407B-8CAF-D9FAC42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35D7-BB7E-4557-B000-1AD5B6FA51A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9E65-3984-4B93-A895-A76E50C2DA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3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6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85F8-AF13-4FB3-A6B1-591EE832152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3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6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D75-D38C-48EE-82FD-00E8582C3D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87C7-E436-4328-91A3-F7F2CA7BE4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AE5-DD7A-48DC-B79C-A4C646531B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B4F-1C51-4400-B15F-D183CCFA0E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301B-0800-40D1-963F-B117594D58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A6D7-B81A-4B10-B017-545533AFBD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860-3548-4017-BCFF-1C99FC9300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B978-2D42-466A-8528-D693BB3F91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834-6780-487E-990A-AFC44421CF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FE4-2EB9-476A-9F12-8689ABDF0C3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УРОК ПО ТЕМЕ:                         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КОНЫ ПОСТОЯННОГО ТОК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 урок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овторить основные понятия и законы постоянного тока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совершенствовать навыки решения задач различного типа;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роверить уровень знаний по данной тем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познавательную активность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стимулировать логическое мышление, активность и самостоятельность студентов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умение сравнивать, анализировать, делать выводы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навыки самоконтроля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коммуникативные способности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россвор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928800" y="1357200"/>
          <a:ext cx="7467480" cy="47707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Прямая соединительная линия 5"/>
          <p:cNvSpPr/>
          <p:nvPr/>
        </p:nvSpPr>
        <p:spPr>
          <a:xfrm>
            <a:off x="3571920" y="4143240"/>
            <a:ext cx="500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>
            <a:off x="3643200" y="5357880"/>
            <a:ext cx="500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>
            <a:off x="3643200" y="3786120"/>
            <a:ext cx="500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"/>
          <p:cNvSpPr/>
          <p:nvPr/>
        </p:nvSpPr>
        <p:spPr>
          <a:xfrm>
            <a:off x="3361680" y="2142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48"/>
          <p:cNvSpPr/>
          <p:nvPr/>
        </p:nvSpPr>
        <p:spPr>
          <a:xfrm>
            <a:off x="857160" y="714240"/>
            <a:ext cx="82868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8 О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     Определить токи резисторах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если напряжение приложенное к цепи равно 120 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62"/>
          <p:cNvSpPr/>
          <p:nvPr/>
        </p:nvSpPr>
        <p:spPr>
          <a:xfrm>
            <a:off x="857160" y="4286160"/>
            <a:ext cx="7358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5 бал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 О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Ом. Определить токи в ветвях, если напряжение приложенное к цепи равно 120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63"/>
          <p:cNvSpPr/>
          <p:nvPr/>
        </p:nvSpPr>
        <p:spPr>
          <a:xfrm>
            <a:off x="785880" y="2428920"/>
            <a:ext cx="7858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ал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Ом     Определить токи в резисторах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если напряжение приложенное к цепи равно 120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64"/>
          <p:cNvSpPr/>
          <p:nvPr/>
        </p:nvSpPr>
        <p:spPr>
          <a:xfrm>
            <a:off x="5429160" y="17146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I2=2,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5"/>
          <p:cNvSpPr/>
          <p:nvPr/>
        </p:nvSpPr>
        <p:spPr>
          <a:xfrm>
            <a:off x="5500800" y="371484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 4A;    I2=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66"/>
          <p:cNvSpPr/>
          <p:nvPr/>
        </p:nvSpPr>
        <p:spPr>
          <a:xfrm>
            <a:off x="5276880" y="55720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 10A;   I2=4A;   I3=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57360" y="1071360"/>
            <a:ext cx="550044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Всем Спасибо за работу 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9720" y="3286080"/>
            <a:ext cx="3886200" cy="135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3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Молодцы!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0" name="Содержимое 3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5218200" y="3100320"/>
            <a:ext cx="1825560" cy="172404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214200" y="642960"/>
            <a:ext cx="1959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42600" y="1142640"/>
            <a:ext cx="8015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Что представляет собой электрический то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О каких трёх величинах идёт речь в законе Ома для участка цеп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Что называют силой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Назовите единицу измерения силы то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Что называется напряжением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 Как формулируется закон Ома для участка цеп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. Как сопротивление проводника зависит от дли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ника и от площади поперечного сечения проводн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 Назовите единицу измерения напряж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.Как называется физическое тело, не проводящее электрический то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 Назовите единицу измерения сопротивл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. Как рассчитать мощность потребител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. Как рассчитать мощность источника питани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. В каких единицах измеряется мощность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каких единицах измеряется работа электрического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Как рассчитать работу электрического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42960" y="571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Физическое  лото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: Напишите около названия каждой физической величины номер формулы, по которой ее можно вычисл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тока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яжение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противление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Ома для участка цеп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Ома для полной цепи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электрического тока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щность электрического то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"/>
          <p:cNvPicPr/>
          <p:nvPr/>
        </p:nvPicPr>
        <p:blipFill>
          <a:blip r:embed="rId1"/>
          <a:stretch/>
        </p:blipFill>
        <p:spPr>
          <a:xfrm>
            <a:off x="3000240" y="85716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"/>
          <p:cNvPicPr/>
          <p:nvPr/>
        </p:nvPicPr>
        <p:blipFill>
          <a:blip r:embed="rId2"/>
          <a:stretch/>
        </p:blipFill>
        <p:spPr>
          <a:xfrm>
            <a:off x="3143160" y="142884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"/>
          <p:cNvPicPr/>
          <p:nvPr/>
        </p:nvPicPr>
        <p:blipFill>
          <a:blip r:embed="rId3"/>
          <a:stretch/>
        </p:blipFill>
        <p:spPr>
          <a:xfrm>
            <a:off x="3429000" y="235728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"/>
          <p:cNvPicPr/>
          <p:nvPr/>
        </p:nvPicPr>
        <p:blipFill>
          <a:blip r:embed="rId4"/>
          <a:stretch/>
        </p:blipFill>
        <p:spPr>
          <a:xfrm>
            <a:off x="4857840" y="392904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5"/>
          <a:stretch/>
        </p:blipFill>
        <p:spPr>
          <a:xfrm>
            <a:off x="4786200" y="307188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6"/>
          <a:stretch/>
        </p:blipFill>
        <p:spPr>
          <a:xfrm>
            <a:off x="4714920" y="5000760"/>
            <a:ext cx="1357200" cy="357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7"/>
          <a:stretch/>
        </p:blipFill>
        <p:spPr>
          <a:xfrm>
            <a:off x="5143680" y="5643720"/>
            <a:ext cx="1285560" cy="4284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5"/>
          <p:cNvSpPr/>
          <p:nvPr/>
        </p:nvSpPr>
        <p:spPr>
          <a:xfrm>
            <a:off x="0" y="340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ое  ло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4481640" y="494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911160" y="95256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911160" y="98964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ока –  ( 7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– ( 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0" y="14860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4"/>
          <p:cNvSpPr/>
          <p:nvPr/>
        </p:nvSpPr>
        <p:spPr>
          <a:xfrm>
            <a:off x="0" y="2030760"/>
            <a:ext cx="4214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– ( 6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0" y="19810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0" y="2370960"/>
            <a:ext cx="49291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ма для участка це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электрического тока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4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0" y="247644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0" y="297468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ма для полной це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2 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1"/>
          <p:cNvSpPr/>
          <p:nvPr/>
        </p:nvSpPr>
        <p:spPr>
          <a:xfrm>
            <a:off x="0" y="29718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328572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324792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6"/>
          <p:cNvSpPr/>
          <p:nvPr/>
        </p:nvSpPr>
        <p:spPr>
          <a:xfrm>
            <a:off x="428760" y="3584520"/>
            <a:ext cx="47149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ость электрического тока- ( 3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1440" y="285840"/>
            <a:ext cx="77025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65c"/>
                </a:solidFill>
                <a:latin typeface="Times New Roman"/>
                <a:ea typeface="Times New Roman"/>
              </a:rPr>
              <a:t>ПРИБОРЫ –ОРУЖИЕ ФИЗИ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934560" y="2133720"/>
            <a:ext cx="820908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обнаружения электрического заря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регулирования силы тока в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измерения силы т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, которым измеряют мощность электрического тока в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, который включается в цепь, параллельно тому участку цепи, где измеряют напряж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42960" y="-50004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i="1" lang="ru-RU" sz="10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</a:t>
            </a:r>
            <a:br>
              <a:rPr sz="1400"/>
            </a:br>
            <a:r>
              <a:rPr b="0" lang="ru-RU" sz="3600" spc="-1" strike="noStrike">
                <a:solidFill>
                  <a:srgbClr val="04617b"/>
                </a:solidFill>
                <a:latin typeface="Arial Black"/>
              </a:rPr>
              <a:t>Практическое зад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4" name="Содержимое 10" descr="F:\data\articles\51\5168\516892\Image3041.gif"/>
          <p:cNvPicPr/>
          <p:nvPr/>
        </p:nvPicPr>
        <p:blipFill>
          <a:blip r:embed="rId1"/>
          <a:stretch/>
        </p:blipFill>
        <p:spPr>
          <a:xfrm>
            <a:off x="1785960" y="1357200"/>
            <a:ext cx="2138400" cy="2389320"/>
          </a:xfrm>
          <a:prstGeom prst="rect">
            <a:avLst/>
          </a:prstGeom>
          <a:ln w="0">
            <a:noFill/>
          </a:ln>
        </p:spPr>
      </p:pic>
      <p:pic>
        <p:nvPicPr>
          <p:cNvPr id="625" name="Содержимое 13" descr="F:\data\articles\51\5136\513639\image3.gif"/>
          <p:cNvPicPr/>
          <p:nvPr/>
        </p:nvPicPr>
        <p:blipFill>
          <a:blip r:embed="rId2"/>
          <a:stretch/>
        </p:blipFill>
        <p:spPr>
          <a:xfrm>
            <a:off x="5214960" y="371484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11" descr="F:\data\articles\51\5136\513639\image6.gif"/>
          <p:cNvPicPr/>
          <p:nvPr/>
        </p:nvPicPr>
        <p:blipFill>
          <a:blip r:embed="rId3"/>
          <a:stretch/>
        </p:blipFill>
        <p:spPr>
          <a:xfrm>
            <a:off x="2143080" y="38577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12" descr="F:\data\articles\51\5168\516892\Image3042.gif"/>
          <p:cNvPicPr/>
          <p:nvPr/>
        </p:nvPicPr>
        <p:blipFill>
          <a:blip r:embed="rId4"/>
          <a:stretch/>
        </p:blipFill>
        <p:spPr>
          <a:xfrm>
            <a:off x="4643280" y="1357200"/>
            <a:ext cx="25178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6286680" y="356760"/>
            <a:ext cx="2535120" cy="49561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расск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й вид соединения проводников вы использовали в работе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измерения и вычисления  проводил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 завися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U,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ида соединения проводника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9" name="Рисунок 5" descr="F:\data\articles\50\5080\508072\img1.jpg"/>
          <p:cNvPicPr/>
          <p:nvPr/>
        </p:nvPicPr>
        <p:blipFill>
          <a:blip r:embed="rId2"/>
          <a:stretch/>
        </p:blipFill>
        <p:spPr>
          <a:xfrm>
            <a:off x="208080" y="1133640"/>
            <a:ext cx="6016680" cy="15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0" name=""/>
          <p:cNvGraphicFramePr/>
          <p:nvPr/>
        </p:nvGraphicFramePr>
        <p:xfrm>
          <a:off x="214200" y="3429000"/>
          <a:ext cx="5857920" cy="1177920"/>
        </p:xfrm>
        <a:graphic>
          <a:graphicData uri="http://schemas.openxmlformats.org/drawingml/2006/table">
            <a:tbl>
              <a:tblPr/>
              <a:tblGrid>
                <a:gridCol w="1200240"/>
                <a:gridCol w="1411200"/>
                <a:gridCol w="1552680"/>
                <a:gridCol w="1693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соеди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я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ротив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Заголовок 9" descr=""/>
          <p:cNvPicPr/>
          <p:nvPr/>
        </p:nvPicPr>
        <p:blipFill>
          <a:blip r:embed="rId1"/>
          <a:stretch/>
        </p:blipFill>
        <p:spPr>
          <a:xfrm>
            <a:off x="304920" y="633240"/>
            <a:ext cx="2700360" cy="12319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213840" y="2214720"/>
            <a:ext cx="3071880" cy="16430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Георг Сим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6 марта 1787 Эрланген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 июля 1854    Мюнхе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3" name="Рисунок 2" descr="http://www.piplz.ru/photo/Ohm.jpg"/>
          <p:cNvPicPr/>
          <p:nvPr/>
        </p:nvPicPr>
        <p:blipFill>
          <a:blip r:embed="rId2"/>
          <a:stretch/>
        </p:blipFill>
        <p:spPr>
          <a:xfrm>
            <a:off x="3492360" y="609480"/>
            <a:ext cx="5054760" cy="113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857240" y="1500120"/>
          <a:ext cx="5786640" cy="4572000"/>
        </p:xfrm>
        <a:graphic>
          <a:graphicData uri="http://schemas.openxmlformats.org/drawingml/2006/table">
            <a:tbl>
              <a:tblPr/>
              <a:tblGrid>
                <a:gridCol w="412920"/>
                <a:gridCol w="414360"/>
                <a:gridCol w="412560"/>
                <a:gridCol w="412920"/>
                <a:gridCol w="414360"/>
                <a:gridCol w="412560"/>
                <a:gridCol w="414360"/>
                <a:gridCol w="412920"/>
                <a:gridCol w="412560"/>
                <a:gridCol w="414360"/>
                <a:gridCol w="412920"/>
                <a:gridCol w="412560"/>
                <a:gridCol w="414360"/>
                <a:gridCol w="412920"/>
              </a:tblGrid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Прямоугольник 2"/>
          <p:cNvSpPr/>
          <p:nvPr/>
        </p:nvSpPr>
        <p:spPr>
          <a:xfrm>
            <a:off x="3297960" y="50004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6-12-14T19:23:05Z</dcterms:modified>
  <cp:revision>81</cp:revision>
  <dc:subject/>
  <dc:title>ЗАЧЕТНО - ОБОБЩАЮЩИЙ УРОК ПО ТЕМЕ:                            « ЗАКОНЫ ПОСТОЯННОГО ТОКА»</dc:title>
</cp:coreProperties>
</file>